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33A-1E57-4728-9E80-09376BB3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613-CA8E-4A66-8ECF-4ADBBB9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954-577B-45EC-BCFC-22CB9589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29D-2FC5-4473-A528-968092F7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603F-018A-46C1-9770-1B8AF50B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BBB-68F3-43D9-BA52-09346BF1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111-66F1-4465-A935-867EE16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72A-A58F-4B1C-A9E0-F49B475C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E8B-9A96-4B6E-9437-035E40C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50AF-C46E-4CC7-AE73-51997AD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819-5C40-42CE-A730-3839545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F23-E5D6-4FBB-86E7-2AEBA7AA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0E86-BAFC-4C1E-B545-1246482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273-FE0D-4C91-A846-612112D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4517-243C-41EF-882B-190D633C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2AF-D136-4197-A93E-6C121D09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5D4-B25B-4CF8-BDC6-4992305C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C42-324E-406D-B2F3-15ED81A6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6B8-3DB8-4264-9997-2FA86EE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DB6-CBC9-406B-911C-8BC5DACD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B60-1C69-464E-87B3-78DF3F4F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5E-9286-4AE4-AADC-DA772EB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C9D-0BED-4BC4-BEAA-21AFAB7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99B-CAD8-4371-AE4D-520E837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926-E3CC-4DFF-B4AF-F3C8E397DA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3BB-188E-4285-8C46-7E23AA036B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5210521&amp;s=1&amp;sc=1&amp;st=5352&amp;q=man%20cannot%20fly%5D&amp;spage=1&amp;hoid=e35fd855ee37c963a1569a512c6c4f5a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5246388&amp;s=1&amp;sc=1&amp;st=123&amp;q=mass%20media&amp;spage=1&amp;hoid=e2fee979407eced47e638fcf3aa8de91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mc?&amp;oid=4953138&amp;s=1&amp;sc=1&amp;st=11&amp;q=Cultural%20Minorities&amp;spage=1&amp;hoid=0ea1b3e0197e9eea799a4fd6d0430acb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The Importance of Culture In Human Developmen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contrast="-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Culture of Poverty to Educ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ary schools children of the urban poor attend clas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ipinos education looked upon as the means for social mo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ltural Dimensions of Learning, Teaching and Educational Proces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Music teacher with student playing violin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Social, cultural, and individual divers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ystones in curricular design and develop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rricular flexi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Student reading book in class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Teachers need theoretical framework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ucation must be student cente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802"/>
                </a:solidFill>
                <a:latin typeface="Arial"/>
              </a:rPr>
              <a:t>Referenc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Psychological Foundations of Education.”2001.Goodwill Bookstore.Metro Mani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Education." Retrieved from http://www.edchange.org/multicultural/activityarch.html. July 7,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.”Teacher.” Retrieved from http://www.animationfactory.com. July 7,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What is Culture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ulture is what man has developed in terms of material object and the uses to which these objects are utilized to meet his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Man Can Set Aside Certain Laws of Na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classrooms, air conditioning or electric fans are installed to change the natural phenome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ificial rain can be produc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Native American caught by eagle">
            <a:hlinkClick r:id="rId1"/>
          </p:cNvPr>
          <p:cNvPicPr/>
          <p:nvPr/>
        </p:nvPicPr>
        <p:blipFill>
          <a:blip r:embed="rId2">
            <a:lum contrast="-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802"/>
                </a:solidFill>
                <a:latin typeface="Arial"/>
              </a:rPr>
              <a:t>Man Can Overcome His Physical Handic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fly like the bi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swim as fast and as long as the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 cannot carry heavy we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a0802"/>
                </a:solidFill>
                <a:latin typeface="Arial"/>
              </a:rPr>
              <a:t>The Growth of Youth subcultur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a0802"/>
                </a:solidFill>
                <a:latin typeface="Arial"/>
              </a:rPr>
              <a:t>What is subculture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subculture is a set of people with a set of behaviors and beliefs, which could be distinct or hidden that differentiate them from larger cul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can be distinctive because of the age, race, ethnicity, class and or gend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Breaking news with revolving globe">
            <a:hlinkClick r:id="rId1"/>
          </p:cNvPr>
          <p:cNvPicPr/>
          <p:nvPr/>
        </p:nvPicPr>
        <p:blipFill>
          <a:blip r:embed="rId2">
            <a:lum contrast="-6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802"/>
                </a:solidFill>
                <a:latin typeface="Arial"/>
              </a:rPr>
              <a:t>Mass Medi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uster of behavior which may differ from those of the ad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me groups may behave and think differently from the r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tion g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scription of Ways of Living and Behaving of Some of our Cultural Minoriti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udy of terms used by young peo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fference of Muslim and Christian Filipin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of dr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ys of wo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ference for certain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Middle Eastern Woman Carrying J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3733920"/>
            <a:ext cx="175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lture of Pove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rban Po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rban poor are city dwellers occupying slum communities and squatters are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4:49:59Z</dcterms:created>
  <dc:creator>Joval</dc:creator>
  <dc:description/>
  <dc:language>en-US</dc:language>
  <cp:lastModifiedBy>User</cp:lastModifiedBy>
  <dcterms:modified xsi:type="dcterms:W3CDTF">2008-07-26T07:14:18Z</dcterms:modified>
  <cp:revision>3</cp:revision>
  <dc:subject/>
  <dc:title>The Importance of Culture In Human Development</dc:title>
</cp:coreProperties>
</file>